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56A-C722-4600-B561-63919A9A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FFD-BD13-4C69-B21B-31B2C77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6E8-4A18-432F-8E3D-325DA2BE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079-CDCD-47BC-8631-AB61166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2F5-AB56-4C0A-86A5-A924480C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5E1-7D10-401C-B726-A6C302E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163-B300-4387-81B4-A8C7F81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F9D-BE37-4932-A4B3-CBABBCC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603-85F9-43A6-B1A7-BBC747A5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26D-1628-468B-9E76-3CC77A0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A3C4-2B2F-4041-9E31-766CAD5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826-8CD1-4B4D-8BE4-497AD69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2442-2A6A-46B0-A145-1B770E8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290-A869-4102-905C-2A76947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B8C-D152-4203-ABB2-9915C88A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3E55-BE61-4295-8991-B8BF9961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DB4-2A0A-4F76-AD4A-882F2361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759-32CA-403D-991B-A99253D9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9D5-C798-4C5C-8DCB-D0017C95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C70-2988-4BDE-A425-E98DF7E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C67-C1C2-4A0B-86D5-0B7B275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F8B-A215-44B3-94A0-B054248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540-E442-4C62-987D-BBC49A1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946-0E6D-4C4B-969B-1B80CF2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F9D-1ADF-4609-82A7-C8C4FDDB4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7C5-8F49-494D-BDD6-E60D557724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king N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pe recorder can be good and b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pros and c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dow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down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ail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strive for the face to fac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does work, but you will not get at the emotion of the interview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ther Interviewing Compon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 the record – (p. 107-1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must go off the record at the beginning of the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view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pecific in det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p. 108-1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many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 –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cut some of the interview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llows the reader to really get a feel for the interview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ublication Chec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ay to go over the story with a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for two rea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to prove malice if story read to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should our policy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or 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administrators look over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s on censo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Hazelw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172200" cy="643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330066"/>
                </a:solidFill>
                <a:latin typeface="Arial"/>
              </a:rPr>
              <a:t>THE </a:t>
            </a:r>
            <a:br>
              <a:rPr sz="22000"/>
            </a:br>
            <a:r>
              <a:rPr b="1" lang="en-US" sz="22000" spc="-1" strike="noStrike">
                <a:solidFill>
                  <a:srgbClr val="330066"/>
                </a:solidFill>
                <a:latin typeface="Arial"/>
              </a:rPr>
              <a:t>END</a:t>
            </a:r>
            <a:endParaRPr b="1" lang="en-US" sz="22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primary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find the best source of information for your 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identify yourself as a repor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omfortable – the ‘poker face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ing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m ready before calling the individual for the interview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library and students / fa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traight forward when you sp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yes / no’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open end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‘-est’ questions – very limiting (p. 1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ck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o use stock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rts s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set-up int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types of stock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arrassing Ques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these questions must be as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noop or pry out of curio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get hos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stening to Respon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y attention to how question is answ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m – weary – scared – ang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 for ‘no comment’ or ‘that’s a good question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ar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dering is not b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end ask the following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nything else you would like to add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ducting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yourself – firm hand sh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data – name (check spelling &amp; preference), job title, years in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 with small questions – then move deeper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 to what is said and not s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 the actions and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ecdotes?  Pounding the desk?  Qu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ing Friend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pport - you need strong ra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eye contact – but not too 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gum, look 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al response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ding your 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n atmosphere of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7:30:34Z</dcterms:created>
  <dc:creator>jvanengen</dc:creator>
  <dc:description/>
  <dc:language>en-US</dc:language>
  <cp:lastModifiedBy>Administrator</cp:lastModifiedBy>
  <dcterms:modified xsi:type="dcterms:W3CDTF">2009-09-22T21:13:22Z</dcterms:modified>
  <cp:revision>6</cp:revision>
  <dc:subject/>
  <dc:title>Chapter 5</dc:title>
</cp:coreProperties>
</file>